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CCE-4491-497B-94A1-73FC611F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24F9-85BA-4929-92D3-604B5FBF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482-5E6B-4200-A455-76628BA9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9BF-88C2-46E1-95C2-DCDF336E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C287-4EE4-4773-964B-92BC9B68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4D8-DFCF-4952-969C-5FB39161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D645-4415-4DEC-AEE4-033F22AD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118-DD91-46DD-B103-665FE252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B37-9353-45BE-BA59-84F53BE4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5A53-A345-4E8F-8DAA-3C179920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2B7E-C764-4FFF-97AE-9CC539FD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E1D-E01F-42A9-A544-4556E144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D5F6-15D4-4C93-902E-7EDEE4D562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1360" y="-360"/>
            <a:ext cx="9144000" cy="47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КИМ ЕГЭ 2020 года в сравнении с 2019 годом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36760" y="452160"/>
            <a:ext cx="9144000" cy="101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учебном году содержательных изменений в ЕГЭ по литературе нет, однако уточнены формулировки критериев оценивания выполнения задани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 15, 9, 16 (ФИПИ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1365120"/>
          <a:ext cx="12192120" cy="5492880"/>
        </p:xfrm>
        <a:graphic>
          <a:graphicData uri="http://schemas.openxmlformats.org/drawingml/2006/table">
            <a:tbl>
              <a:tblPr/>
              <a:tblGrid>
                <a:gridCol w="6095880"/>
                <a:gridCol w="6096240"/>
              </a:tblGrid>
              <a:tr h="29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                                     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ответствие ответа задан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твет на вопрос дан и свидетельствует о понимании текста приведённого фрагмента/стихотвор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твет содержательно соотнесён с поставленной задачей, но не позволяет судить о понимании текста приведённого фрагмента/стихотвор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Ответ содержательно не соотнесён с поставленной задач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ивлечение текста произведения для аргумен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ля аргументации суждений текст привлекается на уровне анализа важных для выполнения задания фрагментов, образов, микротем, деталей и т.п., авторская позиция не искажена, фактические ошибки отсутствую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ля аргументации суждений текст привлекается на уровне пересказа произведения или общих рассуждений о его содержании, авторская позиция не искажена, И/ИЛИ допущена одна фактическая ошиб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уждения не аргументированы текстом произведения, И/ИЛИ авторская позиция искажена, И/ИЛИ допущены две или более фактические ошиб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 искажением авторской позиции понимается грубое искажение наиболее важных идей произведения, общих авторских оценок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Логичность и соблюдение речевых нор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тсутствуют логические, речевые ошиб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опущено не более одной ошибки каждого вида (логическая, и/или речевая) – суммарно не более двух ошибок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опущены две или более ошибки одного вида (независимо от наличия/отсутствия ошибок  других видо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                                    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ритер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ответствие ответа задан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твет на вопрос дан и свидетельствует о понимании текста приведённого фрагмента/стихотвор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твет содержательно соотнесён с поставленной задачей, но не позволяет судить о понимании текста приведённого фрагмента/стихотвор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твет содержательно не соотнесён с поставленной задач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текста произведения для аргумен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ля аргументации суждений текст привлекается на уровне анализа важных для выполнения задания фрагментов, образов, микротем, деталей и т.п., авторская позиция не искажена, фактические ошибки отсутствую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ля аргументации суждений текст привлекается на уровне пересказа произведения или общих рассуждений о его содержании, авторская позиция не искажена, И/ИЛИ допущена одна фактическая ошиб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уждения не аргументированы текстом произведения, И/ИЛИ авторская позиция искажена, И/ИЛИ допущено две или более фактические ошиб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 искажением авторской позиции понимается грубое искажение наиболее важных идей произведения, общих авторских оцен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Логичность и соблюдение речевых нор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тсутствуют логические, речевые ошиб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опущено не более одной ошибки каждого вида (логическая, и/или речевая) – суммарно не более двух ошиб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опущены две или более ошибки одного вида (независимо от наличия/отсутствия ошибок других видо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балл – 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балл – 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12192120" cy="6858000"/>
        </p:xfrm>
        <a:graphic>
          <a:graphicData uri="http://schemas.openxmlformats.org/drawingml/2006/table">
            <a:tbl>
              <a:tblPr/>
              <a:tblGrid>
                <a:gridCol w="6095880"/>
                <a:gridCol w="6096240"/>
              </a:tblGrid>
              <a:tr h="320760"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24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по критерию 1 «Соответствие ответа заданию» ставится 0 баллов, то задание считается невыполненным и дальше не проверяется. По другим критериям выставляется 0 бал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сли по критерию 1 ставится 1 балл, то по критерию 2 «Привлечение текста произведения для аргументации» за ответ не может быть поставлено </a:t>
                      </a:r>
                      <a:r>
                        <a:rPr b="1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более 1 бал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по критерию 2 («Привлечение текста произведения для аргументации») за ответ ставится 0 баллов,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о по критерию 1 не может быть поставлено более 1 балл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а по критерию 3 «Логичность и соблюдение речевых норм» ответ оценивается 0 бал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по критерию 1 («Соответствие ответа заданию») ставится 0 баллов, то задание считается невыполненным и дальше не проверяется. По другим критериям в «Протокол проверки развернутых ответов» выставляется 0 бал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по критерию 2 («Привлечение текста произведения для аргументации») ставится 0 баллов, то по критерию 3 («Логичность и соблюдение речевых норм») работа не оценивается, в «Протокол проверки развернутых ответов» по критерию 3 выставляется 0 бал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Rectangle 1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12192120" cy="6858000"/>
        </p:xfrm>
        <a:graphic>
          <a:graphicData uri="http://schemas.openxmlformats.org/drawingml/2006/table">
            <a:tbl>
              <a:tblPr/>
              <a:tblGrid>
                <a:gridCol w="6095880"/>
                <a:gridCol w="609624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                                     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поставление первого выбранного произведения с предложенным текс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о произведение, и указан его автор, произведение убедительно сопоставлено с предложенным текстом в заданном направлении анализ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о только произведение без указания автора, или указан только автор без указания произведения, произведение убедительно сопоставлено с предложенным текстом в заданном направлении анализа, ИЛИ названо произведение, и/или указан его автор, произведение поверхностно, формально сопоставлено с предложенным текстом в заданном направлении анализ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звано произведение, и не указан его автор, И/ИЛИ не проведено сопоставление произведения с предложенным текстом в заданном направлении анализ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поставление второго выбранного произведения с предложенным текс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о произведение, и указан его автор, произведение убедительно сопоставлено с предложенным текстом в заданном направлении анализ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о только произведение без указания автора, или указан только автор без указания произведения, произведение убедительно сопоставлено с предложенным текстом в заданном направлении анализа, ИЛИ названо произведение, и/или указан его автор, произведение поверхностно, формально сопоставлено с предложенным текс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аданном направлении анализ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звано произведение, и не указан его автор, И/ИЛИ не проведено сопоставление произведения с предложенным текстом в заданном направлении анализ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ивлечение текста произведения при сопоставлении для аргумен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 сопоставлении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аргументации привлекаются тексты двух выбранных произведений, оба текста привлекаются на уровне анализа важных для выполнения задания фрагментов, образов, микротем, деталей и т.п., авторская позиция исходного и выбранных произведений не искажена, фактические ошибки отсутствуют Формальным сопоставлением считается случай, когда экзаменуемый ограничивается повторением слов из формулировки задания для обозначения аспекта сопоставле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                                    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ритер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поставление первого выбранного произведения с предложенным текс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о произведение, и указан его автор, произведение убедительно сопоставлено с предложенным текстом в заданном направлении анализ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о только произведение без указания автора или указан только автор без указания произведения, произведение убедительно сопоставлено с предложенным текстом в заданном направлении анализа, ИЛИ названо произведение, и/или указан его автор, произведение поверхностно, формально сопоставлено с предложенным текстом в заданном направлении анализ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звано произведение, и не указан его автор, И/ИЛИ не проведено сопоставление произведения с предложенным текстом в заданном направлении анализ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поставление второго выбранного произведения с предложенным текс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о произведение, и указан его автор, произведение убедительно сопоставлено с предложенным текстом в заданном направлении анализ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о только произведение без указания автора или указан только автор без указания произведения, произведение убедительно сопоставлено с предложенным текстом в заданном направлении анализа, ИЛИ названо произведение, и/или указан его автор, произведение поверхностно, формально сопоставлено с предложенным текстом в заданном направлении анализ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звано произведение, и не указан его автор, И/ИЛИ не проведено сопоставление произведения с предложенным текстом в заданном направлении анализ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ивлечение текста произведения для аргумен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аргументации привлекаются тексты двух выбранных произведений, оба текста привлекаются на уровне анализа важных для выполнения задания фрагментов, образов, микротем, деталей и т.п., авторская позиция исходного и выбранных произведений не искажена, фактические ошибки отсутствую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льным сопоставлением считается случай, когда экзаменуемый ограничивается повторением слов из формулировки задания для обозначения аспекта сопостав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12192120" cy="6865920"/>
        </p:xfrm>
        <a:graphic>
          <a:graphicData uri="http://schemas.openxmlformats.org/drawingml/2006/table">
            <a:tbl>
              <a:tblPr/>
              <a:tblGrid>
                <a:gridCol w="6095880"/>
                <a:gridCol w="6096240"/>
              </a:tblGrid>
              <a:tr h="28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 сопоставлении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аргументации привлекаются тексты двух выбранных произведений, но текст одного произведения привлекается на уровне анализа важных для выполнения задания фрагментов, образов, микротем, деталей и т.п., а текст другого – на уровне его пересказа или общих рассуждений о содержании, авторская позиция исходного и выбранных произведений не искажена, И/ИЛИ допущена одна фактическая ошиб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 сопоставлении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аргументации привлекаются тексты двух выбранных произведений на уровне пересказа или общих рассужден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их содержании (без анализа важных для выполнения задания фрагментов, образов, микротем, деталей и т.п.), авторская позиция исходного и выбранных произведений не искажена, ИЛИ текст одного выбранного произведения привлекается на уровне анализа важных для выполнения задания фрагментов, образов, микротем, деталей и т.п., а текст другого выбранного произведения не привлекается, авторская позиция исходного и выбранного произведений не искажена, И/ИЛИ допущены две фактические ошиб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 сопоставлении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аргументации текст одного выбранного произведения привлекается на уровне пересказа произведения или общих рассуждений о его содержании (без анализа важных для выполнения задания фрагментов, образов, микротем, деталей и т.п.), а текст другого произведения для сопоставления не привлекается, авторская позиция исходного и выбранного произведений не искажена, ИЛИ авторская позиция одного из произведений (исходного или одного из двух выбранных) искажена (при любых уровнях привлечения текста, описанных для 4, 3 и 2 баллов), И/ИЛИ допущены три фактические ошиб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 сопоставлении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аргументации суждений не привлекается текст ни одного из выбранных произведений, И/ИЛИ искажена авторская позиция единственного выбранного произведения, или двух выбранных произведений, или исходного и выбранного(-ых) произведений, И/ИЛИ допущены четыре или более фактические ошиб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Логичность и соблюдение речевых нор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 логические, речевые ошиб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о не более одной ошибки каждого вида (логическая, и/или речевая) – суммарно не более двух ошибо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ы две или более ошибки одного вида (независимо от наличия/отсутствия ошибок других видов)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балл –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ля аргументации привлекаются тексты двух выбранных произведений, но текст одного произведения привлекается на уровне анализа важных для выполнения задания фрагментов, образов, микротем, деталей и т.п., а текст другого – на уровне его пересказа или общих рассуждений о содержании, авторская позиция исходного и выбранных произведений не искажена, И/ИЛИ допуще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 ошиб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аргументации привлекаются тексты двух выбранных произведений на уровне пересказа или общих рассуждений об их содержании (без анализа важных для выполнения задания фрагментов, образов, микротем, деталей и т.п.), авторская позиция исходного и выбранных произведений не искажена, ИЛИ текст одного выбранного произведения привлекается на уровне анализа важных для выполнения задания фрагментов, образов, микротем, деталей и т.п., а текст другого выбранного произведения не привлекается, авторская позиция исходного и выбранного произведений не искажена, И/ИЛИ допущены две фактические ошиб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аргументации текст одного выбранного произведения привлекается на уровне пересказа произведения или общих рассуждений о его содержании (без анализа важных для выполнения задания фрагментов, образов, микротем, деталей и т.п.), а текст другого произведения для сопоставления не привлекается, авторская позиция исходного и выбранного произведений не искажена; ИЛИ авторская позиция одного из произведений (исходного или одного из двух выбранных) искажена (при любых уровнях привлечения текста, описанных для 4, 3 и 2 баллов); И/ИЛИ допущено три фактические ошиб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аргументации суждений не привлекается текст ни одного из выбранных произведений, И/ИЛИ искажена авторская позиция единственного выбранного произведения, или двух выбранных произведений, или исходного и выбранного(ых) произведений, И/ИЛИ допущено четыре или более фактические ошиб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Логичность и соблюдение речевых нор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 логические, речевые ошиб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о не более одной ошибки каждого вида (логическая, и/или речевая) – суммарно не более двух ошиб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о две или более ошибки одного вида (независимо от наличия/отсутствия ошибок других видов)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балл –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0"/>
            <a:ext cx="1219212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выполнению задания 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 17 – это классическое литературное сочинение. Объём работы – не менее 200 сл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777960"/>
          <a:ext cx="12192120" cy="6065640"/>
        </p:xfrm>
        <a:graphic>
          <a:graphicData uri="http://schemas.openxmlformats.org/drawingml/2006/table">
            <a:tbl>
              <a:tblPr/>
              <a:tblGrid>
                <a:gridCol w="6095880"/>
                <a:gridCol w="6096240"/>
              </a:tblGrid>
              <a:tr h="190440">
                <a:tc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выполнению задания 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 быть в сочинени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0">
                <a:tc>
                  <a:txBody>
                    <a:bodyPr lIns="34200" rIns="34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чинение написано на заданную тему, тема раскрыта глубоко, многосторонне, авторская позиция не искажена (3 балла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ля аргументации суждений текст привлекается на уровне анализа важных для выполнения задания фрагментов, образов, микротем, деталей и т.п. (в сочинении по лирике привлекается для анализа не менее трёх стихотворений), фактические ошибки отсутствуют (3 балла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Теоретико-литературные понятия включены в сочинение и использованы для анализа текста произведения(-ий) в целях раскрытия темы сочинения, ошибки в использовании понятий отсутствуют (2 балла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нение характеризуется композиционной цельностью и последовательностью изложения: логические ошибки отсутствуют, последовательность изложения не нарушена (3 балла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ечевых ошибок нет, или допущена одна речевая ошибка (3 балла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оценка – 14 балл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раскрытие темы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ответствии с авторской позицие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Авторская позиция в ЕГЭ по литературе – это не то же самое, что в ЕГЭ по русскому языку. Имеется в виду понимание замысла текста, его проблематики, основных мотивов, отношения автора к своим героям и тексту в цело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Аргументированность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жно привести три-пять аргументов со ссылками на текст произведения, без фактических ошибок. Ссылки могут быть цитатами, но можно пересказать фрагмент, эпизод, привести мнение самого автора о своём тексте. В сочинении по лирике – проанализировать не менее трёх стихотворе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в работе не только общеупотребительных понятий (например, роман, повесть, герой, персонаж), но и 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уместно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потреблени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инов и понят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без которых невозможен полноценный и многосторонний анализ текста. При характеристике особенностей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оизведения, например, требуется использовать термин антитеза; анализ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тик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оизведения,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а героя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том числе с учетом авторской позиции) требует знания понятий портрет, пейзаж, говорящая фамилия, ремарка; выявление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ыковых особенностей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а предполагает использование таких понятий, как риторический вопрос, афоризм, инверсия, повтор, анафора, олицетворение и т.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Чёткая структура и продуманная композиция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 – с набором тезисов по теме, основная часть – с развёрнутыми рассуждениями и доказательствами из текста, заключение – с понятными выводами. Обратите внимание: чтобы получить максимальные 3 балла, нужно не допустить ни одной логической ошибки. За 1-2 логических ошибки оценка снижается на балл, за 3-4 ошибки – на два балл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Грамотное написание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ачество речи) сочинения с соблюдением нормы литературной письменной реч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нение должно быть написано аккуратно и разборчи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12192120" cy="6942240"/>
        </p:xfrm>
        <a:graphic>
          <a:graphicData uri="http://schemas.openxmlformats.org/drawingml/2006/table">
            <a:tbl>
              <a:tblPr/>
              <a:tblGrid>
                <a:gridCol w="2201760"/>
                <a:gridCol w="2292480"/>
                <a:gridCol w="2657520"/>
                <a:gridCol w="2616120"/>
                <a:gridCol w="2424240"/>
              </a:tblGrid>
              <a:tr h="1219320"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з литературы ХVIII в.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з литературы первой половины ХIХ ве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з литературы второй половины ХIХ в.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з литературы первой половины ХХ века»; «Из литературы второй половины XX – начала XXI в.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з литературы XXI в.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2920"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19 г. блок представлен в 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дание 17.1 высокого уровня слож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едией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И. Фонвизина «Недоросль»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 чем состоит смысл названия комедии Д.И. Фонвизина: ˮНедоросльˮ?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19 г. блок представлен в 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даниях высокого уровня слож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эма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Ю. Лермонтова «Мцыри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есня про царя Ивана Васильевича, молодого опричника и удалого купца Калашникова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комеди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В. Гоголя «Ревизор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 базовой части и заданиях повышенного уровня слож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романо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С. Пушкин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питанская дочка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романо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Ю. Лермонтов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Герой нашего времени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19 г. блок применительно к 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нализу текст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едставлен драм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Н. Островского «Гроз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, романа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С. Тургенева «Отцы и де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М. Достоевского «Преступление и наказани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. Т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мами сочинени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 поэзи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А. Фет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Тютчев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романам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С. Тургенева «Отцы и де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М. Достоевского «Преступление и наказани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ам М.Е. Салтыкова-Щедрин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 роману писателя «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 одного город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19 г. блоки представлены эпическими произведениями: рассказа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А. Бунина («Чистый понедельник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романа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А. Булгакова «Белая гвардия»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«Мастер и Маргарит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(по выбору), творчеством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Л. Пастернак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поэзией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А. Ахматово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эма «Реквием»)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лирическими произведениям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. Рубцова («Сентябрь»)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А. Евтушенко («Когда взошло твое лицо…»)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А. Солоухина («Берез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)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. Высоцкого «Если я богат, как царь морской…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ыновья уходят в бо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)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А. Заболоцкого («Дождь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19 г блок представлен 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даниям линии 17.4 высокого уровня сложности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емы сочинений: «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обновления жизни…», «Тема взаимопонимания между людьми…», «Образ дороги и тема жизненного пути…», «Образ писателя…», «Духовные искания героев…», «Тема служения Родине…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8T07:21:44Z</dcterms:created>
  <dc:creator>Алексей Бельский</dc:creator>
  <dc:description/>
  <dc:language>en-US</dc:language>
  <cp:lastModifiedBy>Алексей Бельский</cp:lastModifiedBy>
  <dcterms:modified xsi:type="dcterms:W3CDTF">2019-11-28T07:55:48Z</dcterms:modified>
  <cp:revision>6</cp:revision>
  <dc:subject/>
  <dc:title>Изменения в КИМ ЕГЭ 2020 года в сравнении с 2019 годом</dc:title>
</cp:coreProperties>
</file>